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20400" y="949320"/>
            <a:ext cx="5891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58a9"/>
                </a:solidFill>
                <a:latin typeface="Arial"/>
              </a:rPr>
              <a:t>Click to move the slide</a:t>
            </a: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3040" y="5938560"/>
            <a:ext cx="666612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6147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5"/>
          </p:nvPr>
        </p:nvSpPr>
        <p:spPr>
          <a:xfrm>
            <a:off x="4716000" y="-360"/>
            <a:ext cx="36147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-360" y="11875680"/>
            <a:ext cx="36147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4716000" y="11875680"/>
            <a:ext cx="36147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4A93-994F-4412-87D5-09D4B0F88B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0" y="-2880360"/>
            <a:ext cx="1440" cy="90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33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6DB5DB-4AB5-43F3-A17A-D8AB8724BF0D}" type="slidenum">
              <a:rPr b="0" lang="en-GB" sz="1800" spc="-1" strike="noStrike">
                <a:solidFill>
                  <a:srgbClr val="0058a9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878-1CA0-4FA3-8009-FC026A7B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FC7-01B7-4F9A-9A4B-EEAC7E32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C59-7BAE-4DB9-A6D9-EA3DCB00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664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12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916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664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12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717-377C-4537-9E5C-1EC55AC7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9160" y="48960"/>
            <a:ext cx="98409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DC6-8301-48E7-B639-263E2873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4664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412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916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4664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7412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87C91-F5C2-40DB-9377-28FED94C1A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A9410-6A5F-4DB1-832C-7100240D2A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AE443-8504-44DB-8CF2-983C1C6C09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85D69-B87E-4B64-84FF-2F4E40BF08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CB2DC-789F-4CDE-9E4E-AC31D0513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A2C-B1BC-48CA-9A3E-488F2986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9160" y="48960"/>
            <a:ext cx="98409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966C8-5397-4FAB-83CF-5EF1D8BBD0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FD670-142E-4329-8646-4C0C667DC3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DE5E4-E2D8-4670-9DE1-8399668B2A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59CC7-EEA5-423A-AD2E-8658C14426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791B0-0A7C-433A-9BE7-687F1F7FEF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D2A25-2EFB-441C-8BC7-A55725D442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4664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7412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916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4664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7412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A2028-790B-4469-AD77-88C23638D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AA4-16CB-4A40-8694-BF9E30AC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79B-48C9-446A-A622-1B5CD68C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9160" y="48960"/>
            <a:ext cx="98409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A7D-4EC7-4C22-920E-44E18050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1FC-62EF-4F37-AC42-70B09597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65E-3A75-4BE6-AE33-246D4C8E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4AA-44DC-456C-9794-AF19AD23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38037-259F-4FFB-B120-A4FB8520F2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912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52360" y="6954840"/>
            <a:ext cx="2070000" cy="507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3382920"/>
            <a:ext cx="85662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58a9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187720" y="1319040"/>
            <a:ext cx="5479920" cy="134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7920" y="208080"/>
            <a:ext cx="4292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912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2360" y="6954840"/>
            <a:ext cx="2070000" cy="507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21000" y="7007400"/>
            <a:ext cx="6985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Num" idx="4"/>
          </p:nvPr>
        </p:nvSpPr>
        <p:spPr>
          <a:xfrm>
            <a:off x="9484920" y="7008480"/>
            <a:ext cx="4856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499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9FFA0C-0E07-402E-ABD6-D6E40E7DC228}" type="slidenum">
              <a:rPr b="0" lang="en-GB" sz="1100" spc="-1" strike="noStrike">
                <a:solidFill>
                  <a:srgbClr val="004990"/>
                </a:solidFill>
                <a:latin typeface="Arial"/>
                <a:ea typeface="DejaVu San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58a9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104240" y="6580080"/>
            <a:ext cx="2698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C3,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65160" y="5477040"/>
            <a:ext cx="63500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 Sep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280" y="2936880"/>
            <a:ext cx="9326520" cy="20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upled atmosphere-ocean nudging and automatic visualization of continous experiments with EMoP in autosubmit</a:t>
            </a:r>
            <a:endParaRPr b="0" lang="en-US" sz="3200" spc="-1" strike="noStrike">
              <a:solidFill>
                <a:srgbClr val="0058a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60600" y="3254400"/>
            <a:ext cx="5264280" cy="3651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9880" y="158760"/>
            <a:ext cx="954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Initial conditions using nud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8760" y="11923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45066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4990"/>
                </a:solidFill>
                <a:latin typeface="Arial"/>
              </a:rPr>
              <a:t>Currently we interpolate ocean initial conditions to model grid causing known error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45066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4990"/>
                </a:solidFill>
                <a:latin typeface="Arial"/>
              </a:rPr>
              <a:t>Initial conditions prepared using nudging in the ocean seems to be  wo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63880" y="2936880"/>
            <a:ext cx="6191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36880" y="3030480"/>
            <a:ext cx="438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lation skill Interpolation-Nud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8640" y="158760"/>
            <a:ext cx="954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upled atmsophere-ocean nud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6520" y="10159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45066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4990"/>
                </a:solidFill>
                <a:latin typeface="Arial"/>
              </a:rPr>
              <a:t>Nudging atmospheric dynamics in coupled mode could improve ocean initial conditions due to improved wind st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45066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4586"/>
                </a:solidFill>
                <a:latin typeface="Arial"/>
              </a:rPr>
              <a:t>Low skill of current nudged ocean </a:t>
            </a:r>
            <a:r>
              <a:rPr b="0" lang="en-US" sz="2200" spc="-1" strike="noStrike">
                <a:solidFill>
                  <a:srgbClr val="004586"/>
                </a:solidFill>
                <a:latin typeface="Arial"/>
                <a:ea typeface="Droid Sans Fallback"/>
              </a:rPr>
              <a:t>initial conditions might result from long time scale of relaxation (1 year in the deep ocean and 10 days in the upper ocean). Tuning of the nudging parameter in prog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68560" y="3809880"/>
            <a:ext cx="827532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8760" y="11905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Visualisation tool developed by L. Brodeau designed for EC-Earth mode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Provides a summary of a simulation and a broad validation against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Is now implemented into autsubmit such that validation is run in the course of the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9160" y="49320"/>
            <a:ext cx="984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 complete comparison with EM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8760" y="11905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Timeseries atmosp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file:///cfu/diagnostics/emop_obellprat/i05g/19931101/fc0/time_series/i05g/ocean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Timeseries oc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file:///cfu/diagnostics/emop_obellprat/i05g/19931101/fc0/time_series/i05g/atmosphere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Comparison again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file:///cfu/diagnostics/emop_obellprat/a01q/20000101/fc0/diag_a01q_2000-2029/a01q-obs_2000-2029/set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9160" y="50760"/>
            <a:ext cx="984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moP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9160" y="50760"/>
            <a:ext cx="984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sing EMoP in autosub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8760" y="11905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New functionalities have been added to autosubmit that allow automatic local post-processing and plo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05120" y="2824200"/>
            <a:ext cx="8127720" cy="3843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20880" y="4210200"/>
            <a:ext cx="3019320" cy="295272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936880" y="142884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TRANSF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E = templates/common/common.local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TFORM =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PENDENCIES =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NNING = ch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EQUENCY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LOCALPO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E = /cfu/autosubmit/a028/common.local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TFORM = star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PENDENCIES =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NNING = ch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EQUENCY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ALLCLOCK = 0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LOCALPLO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E = /cfu/autosubmit/a028/common.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TFORM = o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PENDENCIES = LOCAL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NNING = ch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REQUENCY =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5480" y="158760"/>
            <a:ext cx="6782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sing EMoP in autosub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8760" y="11923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Requires additional changes in jobs 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98680" y="230508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7560" y="321156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08080" y="2455920"/>
            <a:ext cx="9842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76400" y="1673280"/>
            <a:ext cx="80168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CLASS = em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After transferring output at /cfunas/exp remove a copy available at permanent storage of HPC [Default: Do set "TRUE"]. BOOLEAN = TRUE,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EL_output_remove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Activate cmorization [Default: leave empty]. BOOLEAN = TRUE,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MORIZ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. STRING =  (http://www.specs-fp7.eu/wiki/images/1/1c/SPECS_standard_output.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MORFAMILY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Supply the name of the experiment associated (if there is any) otherwise leave it empty. STRING (with space) = seasonal r1p1, seaiceinit r?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OCIATED_EXPERI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 (Forcing). STRING = Nat,Ant (Nat and Ant is a single 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ING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 (Initialization description). STRING = N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_DESC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 (Physics description). STRING = N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_DESC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 (Associated model). STRING = N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OC_MODEL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Activate EmOP after transferring data locally [Default: False]. If TRUE the outclass "emop" will be forced to ensure the right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OP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8760" y="11923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And changes in proj 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8200" y="158760"/>
            <a:ext cx="6781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sing EMoP in autosub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8:44:11Z</dcterms:created>
  <dc:creator>Omar Bellprat</dc:creator>
  <dc:description/>
  <dc:language>en-US</dc:language>
  <cp:lastModifiedBy>Omar Bellprat</cp:lastModifiedBy>
  <dcterms:modified xsi:type="dcterms:W3CDTF">2015-09-14T08:44:36Z</dcterms:modified>
  <cp:revision>1</cp:revision>
  <dc:subject/>
  <dc:title/>
</cp:coreProperties>
</file>